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halkboard"/>
              </a:rPr>
              <a:t>2013 Cost of Data Breach Survey: Global Analysis</a:t>
            </a:r>
            <a:endParaRPr b="0" lang="en-US" sz="7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onemon Institute (2013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337440" y="9258120"/>
            <a:ext cx="32832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C41E-BF61-405F-8DCA-0C86E8439EFD}" type="slidenum"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fter the facts costs*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306440" y="2946240"/>
            <a:ext cx="10377720" cy="55375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30120" y="8655120"/>
            <a:ext cx="12369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b00fe"/>
                </a:solidFill>
                <a:latin typeface="Arial"/>
                <a:ea typeface="Arial"/>
              </a:rPr>
              <a:t>*help desk activities, inbound communications, special investigative activities, remediation activities, legal expenditures, product discounts, identity protection services and regulatory interventions.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usiness Costs of Breach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339920" y="2946240"/>
            <a:ext cx="10375920" cy="5626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90440" y="8636040"/>
            <a:ext cx="12585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b00fe"/>
                </a:solidFill>
                <a:latin typeface="Arial"/>
                <a:ea typeface="Arial"/>
              </a:rPr>
              <a:t>abnormal turnover of customers, increased customer acquisition activities, reputation losses and diminished goodwill.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verage Breached Record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257480" y="3708360"/>
            <a:ext cx="1031220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verage Cost per Record Breached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1473120" y="3657600"/>
            <a:ext cx="1021104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verage Total Cost of Breached Record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1403280" y="3390840"/>
            <a:ext cx="1009656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oot Caus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168560" y="2946240"/>
            <a:ext cx="10415520" cy="5054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7912080"/>
            <a:ext cx="115682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Malicious attack includes insider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st per type of data breach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160640" y="3035160"/>
            <a:ext cx="1063620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Factors that influence cost of data breach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270080" y="2944800"/>
            <a:ext cx="103122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sts of Detection/Escal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270080" y="2946240"/>
            <a:ext cx="1064268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sts of Notific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271520" y="2946240"/>
            <a:ext cx="10414080" cy="560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